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D622-1F3B-4A5B-B78E-2B1AB489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8890-4599-4238-BDAA-921A0823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4504-7A0C-442E-9FFC-A2BC3F55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0171-779E-4B08-AF63-38934550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71F-6857-4C61-9D11-97CBD352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728E-0A40-4992-931C-AAC614FF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E840-A3E9-471E-8E14-0A48E4B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6357-632C-4A99-89AD-B95B93DF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C3FC-6743-4BA7-94B9-891BC93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CBE-69C2-41FD-AA56-2CD0584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CD0-487D-422F-8E07-D863279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8AAA-C005-49DE-90B8-AF9CFED1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5EB-1131-4D55-9486-8DC7B6F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C4E8-9D88-4966-9333-904898B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4AF-F59D-4905-9178-134F50EC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A69-4E59-4AB4-8523-D1D1227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AF0-2D80-4EBA-A6F5-9F97A194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B6FE-04AB-46BF-BF35-A8123184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1651-EC7F-4658-8F2F-E5D3F191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7017-04AF-4417-8848-88EA41E6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3F73-F714-4BF5-8E52-CC0A9E1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0E29-2D0B-4A7F-B3F2-38F765B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D372-C333-4F6C-92F2-2C64176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FA5F-1A59-49D0-9506-A0A034A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47D2-FDD1-4D72-81FD-91DC18FCC491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42DF-DFE5-4CB2-8DE0-63E9D9EED95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2822400" y="103500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4648320" y="4876920"/>
            <a:ext cx="4038480" cy="5331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KHOA QUẢN TRỊ KINH DOA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5715000" y="5562720"/>
            <a:ext cx="2971800" cy="5331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vi-VN" sz="2000" spc="-1" strike="noStrike">
                <a:solidFill>
                  <a:srgbClr val="003300"/>
                </a:solidFill>
                <a:latin typeface="Arial"/>
              </a:rPr>
              <a:t>. LÊ THỊ HẠNH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2244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YỂN MỘ VÀ LỰA CHỌN</a:t>
            </a:r>
            <a:r>
              <a:rPr b="1" lang="vi-VN" sz="4000" spc="-1" strike="noStrike">
                <a:solidFill>
                  <a:srgbClr val="ffffff"/>
                </a:solidFill>
                <a:latin typeface="Arial"/>
              </a:rPr>
              <a:t> NGUỒN NHÂN LỰC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21337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2560" indent="-5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Lợi ích:</a:t>
            </a:r>
            <a:br>
              <a:rPr sz="2400"/>
            </a:b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iết được năng lực và phẩm chất của nhân viê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Nhân viên nắm bắt và thực hiện công việc nhanh hơn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iết kiệm thời gian và chi phí tuyển dụng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ạo cơ hội thăng tiến cho nhân viên.</a:t>
            </a:r>
            <a:br>
              <a:rPr sz="2400"/>
            </a:br>
            <a:br>
              <a:rPr sz="1000"/>
            </a:b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Nhân viên làm việc theo khuôn rập, không sáng tạo, thi đua.</a:t>
            </a:r>
            <a:br>
              <a:rPr sz="2400"/>
            </a:b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 Thực hiện không tốt =&gt; mất đoàn kết nội bộ.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518184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41148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895480"/>
            <a:ext cx="7162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Một số nguồn bên ngoài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bạn bè, người thân của nhân viê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nhân viên cũ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Ứng viên do quảng cáo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hu hút từ sự kiện đặc biệt(hội chợ)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  <a:ea typeface="Arial"/>
              </a:rPr>
              <a:t>Từ các trường đại học, cao đẳ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52388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388620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NGOÀ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666880"/>
            <a:ext cx="84981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Ưu điể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u hút nhiều nhân tài tham gia công t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ạo phong cánh làm việc mới mẻ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Phát triển kỹ năng, kinh nghiệm cho nhân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hi phí đào tạo, hiệu suất công việc ca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9900"/>
                </a:solidFill>
                <a:uFillTx/>
                <a:latin typeface="Arial"/>
              </a:rPr>
              <a:t>Nhược điểm:</a:t>
            </a:r>
            <a:r>
              <a:rPr b="0" lang="vi-VN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-   Tốn nhiều thời gian và chi phí tuyển dụng và thử việ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Giảm cơ hội thăng tiến cho nv trong tổ chứ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Ứng viên cần thời gian thích ứng công việc mớ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Lựa chọn được ứng viên phù hợp công việc khó khăn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2666880"/>
            <a:ext cx="8001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1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ập kế hoạc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2</a:t>
            </a:r>
            <a:r>
              <a:rPr b="0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 Lựa chọn giải pháp tìm kiếm người xin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3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quá trình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 u="sng">
                <a:solidFill>
                  <a:srgbClr val="003300"/>
                </a:solidFill>
                <a:uFillTx/>
                <a:latin typeface="Arial"/>
              </a:rPr>
              <a:t>Bước 4: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i pháp thay thế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1752480"/>
            <a:ext cx="45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 QUY TRÌN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502920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2. QUY TRÌNH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752480"/>
            <a:ext cx="510516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1. LẬP KẾ HOẠCH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666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vị trí, số lượng người cần tuyể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guồn tuyển mộ và phương pháp tuyển mộ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ành lập hội đồng tuyển dụ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Xác định thời gian, địa điểm, 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ắm rõ các chính sách, mục tiêu, quy định pháp chế của nhà nước và tổ chứ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XÁC ĐỊNH TỶ LỆ SÀNG LỌC QUA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thị trường lao động (cung- cầu lao động)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chất lượng của NNL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vào mức độ phức tạp của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ăn cứ tâm lý chọn nghề của tập thể người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Kinh nghiệm tổ chức trong công tác tuyển mộ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600200"/>
            <a:ext cx="5410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3 CÁC HÌNH THỨC THU HÚT NN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giới thiệu của cán bộ công nhân viên chức trong và ngoài D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quảng cáo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uyển trực tiếp từ các trường Đại học, cao đẳng, trung cấp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hội chợ việc làm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qua truyền thông, internet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1600200"/>
            <a:ext cx="5943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4. ĐÁNH GIÁ QUÁ TRÌNH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Số lượng hồ sơ dự tuyể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ời gian để thực hiện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i phí tuyển mộ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600200"/>
            <a:ext cx="65530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2.5 GIẢI PHÁP THAY THẾ CHO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057400"/>
            <a:ext cx="66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Làm thêm gi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Nhờ giúp tạm thờ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Hợp đồng thầu lạ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  <a:ea typeface="Arial"/>
              </a:rPr>
              <a:t>Thuê lao động từ công ty khá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2057400"/>
            <a:ext cx="45720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1 KHÁI NIỆM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52680"/>
            <a:ext cx="6933960" cy="2286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305160"/>
            <a:ext cx="815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vi-VN" sz="2600" spc="-1" strike="noStrike">
                <a:solidFill>
                  <a:srgbClr val="003300"/>
                </a:solidFill>
                <a:latin typeface="Arial"/>
              </a:rPr>
              <a:t>Tuyển chọn là quá trình đánh giá và chọn lọc kỹ lưỡng các ứng viên phù hợp với yêu cầu công việc đặt ra của tổ chức”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TÀI LIỆU THAM KHẢO</a:t>
            </a:r>
            <a:br>
              <a:rPr sz="4000"/>
            </a:br>
            <a:r>
              <a:rPr b="1" lang="vi-VN" sz="4000" spc="-1" strike="noStrike">
                <a:solidFill>
                  <a:srgbClr val="ff0000"/>
                </a:solidFill>
                <a:latin typeface="Arial"/>
              </a:rPr>
              <a:t>*********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Trần Kim Dung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íao trình QTNNL, NXB thống kê – 2006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3300"/>
                </a:solidFill>
                <a:latin typeface="Arial"/>
              </a:rPr>
              <a:t>Ts. Nguyễn Ngọc Quân và Ths Nguyễn Văn Điền</a:t>
            </a: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, giáo trình QTNNL, NXB trường ĐH Kinh Tế Quốc Dân- 2007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3300"/>
                </a:solidFill>
                <a:latin typeface="Arial"/>
              </a:rPr>
              <a:t>Một số tài liệu tham khảo khác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2 VAI TRÒ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ưa ra các quyết định tuyển dụng đúng đắ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ựa chọn người có kỹ năng phù hợp với chiến lược và mục tiêu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ảm chi phí và rủi ro trong quá trình thực hiện công việ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Ảnh hưởng đến chiến lược kinh doanh của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ánh giá mức độ thông tin chính xác và khoa học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Xuất phát từ kế hoạch sản xuất kinh doanh và kế họach NNL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ừời có trình độ chuyên môn-&gt; đạt năng suất và hiệu suất công tác cao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uyển người có tinh thần và trách nhiệm làm việc cao, gắn bó với công việc,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905120"/>
            <a:ext cx="655308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3.3 CÁC YÊU CẦU CỦA 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4114800"/>
            <a:ext cx="2666880" cy="182880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 QUY TRÌN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TUYỂN CHỌ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7524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iếp nhận Hồ sơ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3623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sơ bộ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97180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Trắc nghiệ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581280"/>
            <a:ext cx="2438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Phỏng vấn chọn lọ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41911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Xác minh, điều t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876920"/>
            <a:ext cx="24382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Kiểm tra sức khỏ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5562720"/>
            <a:ext cx="243864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3300"/>
                </a:solidFill>
                <a:latin typeface="Arial"/>
              </a:rPr>
              <a:t>Hướng dẫn hội nhập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57440" y="1980720"/>
            <a:ext cx="3352680" cy="124308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NI-Times"/>
              </a:rPr>
              <a:t> </a:t>
            </a:r>
            <a:r>
              <a:rPr b="0" lang="vi-VN" sz="2000" spc="-1" strike="noStrike" u="sng">
                <a:solidFill>
                  <a:srgbClr val="003300"/>
                </a:solidFill>
                <a:uFillTx/>
                <a:latin typeface="Arial"/>
              </a:rPr>
              <a:t>Lưu ý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3300"/>
                </a:solidFill>
                <a:latin typeface="Arial"/>
              </a:rPr>
              <a:t>Quy trình tuyển dụng có thể thay đổi linh họat tùy thuộc đặc điểm và vị trí công việc cầ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28600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954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505320"/>
            <a:ext cx="152640" cy="759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114800"/>
            <a:ext cx="15264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7242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410080"/>
            <a:ext cx="152280" cy="763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4084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ọn ra hồ sơ đạt yêu cầu dựa trên biểu mẫu đánh giá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Loại bỏ các ứng viên yếu kém, không trung thự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iểm tra thông tin trong hồ sơ dự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ứng viên đạt yêu cầu tham gia tiếp phần kiểm tra, trắc nghiệm,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600200"/>
            <a:ext cx="403848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1 PHỎNG VẤN SƠ B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ho ứng viên làm kiểm tra/ trắc nghiệ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Có thể dùng các dạng kiểm tra/ trắc nghiệm sau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IQ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ỹ năng, chuyên mô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kiến thức tổng qua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âm lý, tính cách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85840">
              <a:spcBef>
                <a:spcPts val="649"/>
              </a:spcBef>
              <a:buClr>
                <a:srgbClr val="00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9900"/>
                </a:solidFill>
                <a:latin typeface="Arial"/>
              </a:rPr>
              <a:t>Trắc nghiệm thành tích,vv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Thông báo ứng viên đạt yêu cầu tham gia phỏng vấn tuyển chọ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600200"/>
            <a:ext cx="46483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2. KIỂM TRA, TRẮC NGHIỆ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3300"/>
                </a:solidFill>
                <a:uFillTx/>
                <a:latin typeface="Arial"/>
              </a:rPr>
              <a:t>Mục tiêu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u thập thông tin về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Giới thiệu về công 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ung cấp thông tin cần thiết cho các ứng viê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Thiết lập quan hệ, tăng khả năng giao tiếp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9900"/>
                </a:solidFill>
                <a:uFillTx/>
                <a:latin typeface="Arial"/>
              </a:rPr>
              <a:t>Các dạng phỏng vấn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mẫu/ không mẫu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tình huống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nhóm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theo hội đồng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Phỏng vấn căng thẳng,vv.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676520"/>
            <a:ext cx="4800600" cy="53316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Trình tự phỏng vấn gồm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Lên kế hoạch phỏng vấ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Chuẩn bị và lựa chọn bản câu hỏi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Xây dựng hệ thống thang điểm đánh giá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Arial"/>
              </a:rPr>
              <a:t>Tiến hà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3300"/>
                </a:solidFill>
                <a:uFillTx/>
                <a:latin typeface="Arial"/>
              </a:rPr>
              <a:t>Chú ý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ần chuẩn bị các bước theo đúng quy trình phỏng vấ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ặt câu hỏi, lắng nghe, và quan sát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3. PHỎNG VẤN TUYỂN CHỌ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52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Xác minh năng lực, lòng trung thành, trình độ, lý lịch cá nhân của ứng viên qu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ông ty cũ của ứng viê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Địa phương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rường họ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Thông báo cho ứng viên trúng tuyể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3300"/>
                </a:solidFill>
                <a:latin typeface="Arial"/>
              </a:rPr>
              <a:t>Cung cấp các tiêu chuẩn về thể lực cho các yêu cầu vị trí công việc cụ thể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6002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4. XÁC MINH, ĐIỀU TRA 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8006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5 KIỂM TRA SỨC KHỎ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nhân viên mới với các thành viên cũ trong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Hướng dẫn công việc, nhiệm vụ cần phải thực hiệ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ực hiện thử việc dựa theo bảng đánh giá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yết định tuyển dụng chính thức và ký hợp đồng lao động dài hạn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480060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4.6. HƯỚNG DẪN HỘI NHẬP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UỒN NHÂN LỰC 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37339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MỤC TIÊU CHƯƠ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1460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Hiểu được khái niệm và vai trò của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NN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Các nhân tố ảnh hưởng đến quá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Quy trình tuyể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ộ </a:t>
            </a: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và lựa chọn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96720" indent="-39672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Đánh giá kết quả tuyển dụng và thực hiện bố trí nhân sự</a:t>
            </a:r>
            <a:br>
              <a:rPr sz="2400"/>
            </a:br>
            <a:r>
              <a:rPr b="1" lang="vi-VN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981080"/>
            <a:ext cx="426744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HÁI QUÁT</a:t>
            </a: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 TUYỂN DỤN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1337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Là quá trình bao gồm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mộ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Tuyển chọn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800" spc="-1" strike="noStrike">
                <a:solidFill>
                  <a:srgbClr val="003300"/>
                </a:solidFill>
                <a:latin typeface="Arial"/>
              </a:rPr>
              <a:t>Bố trí</a:t>
            </a:r>
            <a:r>
              <a:rPr b="0" i="1" lang="vi-VN" sz="2800" spc="-1" strike="noStrike">
                <a:solidFill>
                  <a:srgbClr val="0033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3300"/>
                </a:solidFill>
                <a:latin typeface="Arial"/>
              </a:rPr>
              <a:t>chúng được liên kết chặt chẽ với nhau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312408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uyển mộ là quá trình thu hút những ứng viên có năng lực phù hợp tham gia vào quá trình tuyển chọn của công ty.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828800"/>
            <a:ext cx="44197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1. KHÁI NIỆM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6200000">
            <a:off x="-722160" y="262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880" y="228600"/>
            <a:ext cx="8458200" cy="5943600"/>
            <a:chOff x="380880" y="228600"/>
            <a:chExt cx="8458200" cy="5943600"/>
          </a:xfrm>
        </p:grpSpPr>
        <p:grpSp>
          <p:nvGrpSpPr>
            <p:cNvPr id="126" name=""/>
            <p:cNvGrpSpPr/>
            <p:nvPr/>
          </p:nvGrpSpPr>
          <p:grpSpPr>
            <a:xfrm>
              <a:off x="380880" y="228600"/>
              <a:ext cx="8458200" cy="5943600"/>
              <a:chOff x="380880" y="228600"/>
              <a:chExt cx="8458200" cy="5943600"/>
            </a:xfrm>
          </p:grpSpPr>
          <p:sp>
            <p:nvSpPr>
              <p:cNvPr id="127" name=""/>
              <p:cNvSpPr/>
              <p:nvPr/>
            </p:nvSpPr>
            <p:spPr>
              <a:xfrm>
                <a:off x="380880" y="609480"/>
                <a:ext cx="609840" cy="54864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7920" y="4572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Nhiều người tham gia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7920" y="990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Tỷ lệ người được chấp nhậ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7920" y="1523880"/>
                <a:ext cx="5181480" cy="5079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rình độ lành nghề c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7920" y="21337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ác vấn đề tồn tại công việc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7920" y="26668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Cung lao động- mức lươ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7920" y="32004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Mức lương hấp dẫ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373392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Ứng viên có tay nghề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7920" y="426708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Giảm thời gian và chi phí đào tạo.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4800600"/>
                <a:ext cx="5181480" cy="4572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Bố trí công việc thích hợp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7920" y="5334120"/>
                <a:ext cx="5181480" cy="83808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Hình ảnh công ty ảnh hưởng số lượng 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3300"/>
                    </a:solidFill>
                    <a:latin typeface="Arial"/>
                  </a:rPr>
                  <a:t>đơn xin dự tuyển của ứng viê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10280" y="2286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uyển chọ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10280" y="1600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ánh giá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công việc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0280" y="2743200"/>
                <a:ext cx="1828800" cy="76212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Thù lao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3733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Đào tạo và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Phát triển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4876920"/>
                <a:ext cx="1828800" cy="76176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Mối quan hệ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vi-VN" sz="2400" spc="-1" strike="noStrike">
                    <a:solidFill>
                      <a:srgbClr val="000000"/>
                    </a:solidFill>
                    <a:latin typeface="Arial"/>
                  </a:rPr>
                  <a:t>Lao động</a:t>
                </a:r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29400" y="6858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29400" y="18288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29400" y="28954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29400" y="396252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29400" y="5029200"/>
                <a:ext cx="38088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990720" y="76212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990720" y="1143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990720" y="2286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990720" y="342900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990720" y="4495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990720" y="5638680"/>
                <a:ext cx="4572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16200000">
              <a:off x="-1485720" y="2780640"/>
              <a:ext cx="434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2400" spc="-1" strike="noStrike">
                  <a:solidFill>
                    <a:srgbClr val="003300"/>
                  </a:solidFill>
                  <a:latin typeface="Arial"/>
                </a:rPr>
                <a:t>TUYỂN MỘ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66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ỐI QUAN HỆ TUYỂN MỘ VÀ CHỨC NĂNG KHÁ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5146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u hút những người tài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Bổ nhiệm và bố trí lại nhân sự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Kích thích tinh thần làm việc, tính sáng tạo, đạt hiệu quả công việc cao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ạo nguồn sinh lực mới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Xây dựng và phát triển văn hóa tổ chức tốt hơ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ăng lợi thế cạnh tranh cho doanh nghiệp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600200"/>
            <a:ext cx="4876920" cy="609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2 MỤC TIÊU CỦA TUYỂN MỘ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523880"/>
            <a:ext cx="7238880" cy="609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.3. </a:t>
            </a:r>
            <a:r>
              <a:rPr b="1" lang="vi-VN" sz="2600" spc="-1" strike="noStrike">
                <a:solidFill>
                  <a:srgbClr val="ffff00"/>
                </a:solidFill>
                <a:latin typeface="Arial"/>
              </a:rPr>
              <a:t>CÁC NHÂN TỐ ẢNH HƯỞNG TUYỂN MỘ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90720" y="225576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Uy tín của doanh nghiệp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Chính sách quản lý nhân sự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Quan hệ với trung tâm giới thiệu việc làm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ài chính của công ty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Mối quan tâm giữa các ngành nghề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ị trường lao động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ối thủ cạnh tranh cùng ngành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600200"/>
            <a:ext cx="5105520" cy="5335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Arial"/>
              </a:rPr>
              <a:t>1.4 . CÁC NGUỒN TUYỂN MỘ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048120"/>
            <a:ext cx="79246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Ứng viên là nhân viên bên trong công ty. Họ được: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Giới thiệu từ cán bộ, công nhân trong tổ chức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Thông báo tuyển dụng công khai các chức danh     cần tuyển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463680" indent="-463680"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3300"/>
                </a:solidFill>
                <a:latin typeface="Arial"/>
              </a:rPr>
              <a:t>Đề bạt dựa trên thông tin về quá trình làm việc, trình độ, thành tích cá nhân,...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362320"/>
            <a:ext cx="4038480" cy="4572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3300"/>
                </a:solidFill>
                <a:latin typeface="Arial"/>
              </a:rPr>
              <a:t>NGUỒN BÊN TRO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YỂN DỤNG &amp; </a:t>
            </a: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LỰA CHỌ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NGUỒN NHÂN LỰ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0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000066"/>
                </a:solidFill>
                <a:uFillTx/>
                <a:latin typeface="Arial"/>
              </a:rPr>
              <a:t>CHƯƠNG 4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7:36:44Z</dcterms:created>
  <dc:creator>TUAN HANH</dc:creator>
  <dc:description/>
  <dc:language>en-US</dc:language>
  <cp:lastModifiedBy>TUAN HANH</cp:lastModifiedBy>
  <dcterms:modified xsi:type="dcterms:W3CDTF">2010-05-04T07:41:4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